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4E5-C04A-4C35-8326-7F90E676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0FC-696A-49CD-BA87-9F50B21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BCC-C5BB-4053-902C-48DD54A6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A39-DC0E-450A-AA70-A68D4B42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88C-D3A7-43D8-B3F5-048558E0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1E1-BE18-4ED5-8518-17C9136F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097-428B-4429-9C64-9EE300D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33F-2055-48FD-BDB8-08FB30D9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B0B-D163-451A-BB28-542772B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0CA-FE0A-44A8-8BCC-C727D06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814-4F8E-45AE-90EA-87C159A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9FD-404D-40EA-8AF2-0895A31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B0C-58FF-4DA3-BBD9-3EA0EE346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يسوع صوتك اسمعنا وحواليك                              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جمَّ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و عطول بضَّلَك معنا وبحُبك بتجم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نَقَّيت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12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تلمي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ريتَك بتنقينا      هالعمر بقربَك لذيذ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  بقربك ربي خلّينا وحدَك إنتَ بتكفي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562360" cy="81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8862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آخر ليـل سهـرة مع يسوع وصّى تلاميذو وصية  وقلبو الأصفـى من الينبوع فاض محبـة وحنيّة    يـا تلاميـذي بــدّي الحب يهّب بهالعالم كلّـو ويلـّي مـا في عنـدو قلب حطُّولو قلب محلّو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محبــة حقيقي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57200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ا يسوع مثل ما وصيت نحنا الحب رسالتنـا كرمالــك تركنا أهل وبيت وجينا لعندك كليتنـا مـن قلبــك عمنغرف حب ومن روحك عمتسق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لما نـارك فينــا تهـّب وبالمحبـة تمليّن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ويـن مـا بدّك ودّي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6:10:45Z</dcterms:created>
  <dc:creator>SUZANNE.MD</dc:creator>
  <dc:description/>
  <dc:language>en-US</dc:language>
  <cp:lastModifiedBy>HANI SAFI</cp:lastModifiedBy>
  <dcterms:modified xsi:type="dcterms:W3CDTF">2003-04-16T13:39:56Z</dcterms:modified>
  <cp:revision>2</cp:revision>
  <dc:subject/>
  <dc:title>PowerPoint Presentation</dc:title>
</cp:coreProperties>
</file>